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671-320C-4374-84D4-6E674397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EC4-8823-43BA-8EBD-4559EBC9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458-87C8-420A-A4CC-C6B489FE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2A2-8220-4982-BB23-84804E29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33D1-6810-4AD1-B3CC-D1A5205A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2B0A-6BE3-4B55-B776-5E91945F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920B-D291-4582-91E4-44914F49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D8C1-738E-4C99-AACC-4576D634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020E-2D87-4906-9AEA-6A29AC21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585D-30E2-40E9-8DA6-94C7E408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8F91-6A0D-4B38-ADE9-ED8A688B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34A-88DD-4C6C-B7EA-B66F7F63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F12D-E536-420F-A6D5-5E46FD7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4B50-F04F-4504-8694-D8CDAC66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563A-CC38-4EAF-B775-FDBF089F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D7A3-E7AB-4D7C-8531-8943024B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2329-64C7-473A-9ABB-7766B2A7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D1A-547F-4556-B80D-0CF5EBE7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9D2-F955-4C44-84A7-12695BF4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40A-11F1-40E6-9F76-09FC4AB9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206-38DF-4361-B2D8-1DCAFA1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4F3-EA63-4C14-93FB-F5612570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B6D-D89A-4269-A45B-83BED44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D71-37B8-40B9-AB81-F29E452B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3E2D-477E-4B42-9FE8-12B12DF191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AFA-276E-46FF-AC69-8E5A42472F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how.zoho.com/public/pfranklin/let&apos;s%20begin%20at%20the%20beginning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vo.wikispaces.com/" TargetMode="External"/><Relationship Id="rId2" Type="http://schemas.openxmlformats.org/officeDocument/2006/relationships/hyperlink" Target="http://bit.ly/tvo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e.int/t/dg4/linguistic/CADRE_EN.asp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STORY CONTINU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Foreign Languag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R/P &amp; I/M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Approach to Curriculum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Attem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this was t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Implem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ING ALL THE B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EXTS &amp; TOPICS ARE THOROUGHLY SH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QUIRED ACTIV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ice weekly dictations – forms A and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ice/thrice weekly response jour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monthly recitations = songs, chants, po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quent listening ho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quent speaking ho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RD DIGR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-wide topic = F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itable for (almost) every grade and for French and German, to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 to incorporate the following inputs appropriately during the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olve the students as much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UNGRY PLANET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WORLD EA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6782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RST DIGR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L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99"/>
                </a:solidFill>
                <a:latin typeface="Arial"/>
              </a:rPr>
              <a:t>CONTENT </a:t>
            </a:r>
            <a:br>
              <a:rPr sz="4400"/>
            </a:br>
            <a:r>
              <a:rPr b="1" lang="en-US" sz="4400" spc="-1" strike="noStrike">
                <a:solidFill>
                  <a:srgbClr val="99cc99"/>
                </a:solidFill>
                <a:latin typeface="Arial"/>
              </a:rPr>
              <a:t>and LANGUAGE INTEGRATED LEAR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SIG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your grade level, collaboratively work out units (R/P &amp;I/M) to share on Sept.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with all the foreign language teacher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 to use displays and bulletin boards on this topic throughout the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NEW BEGI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DOM within CONSTR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metaphor = Change the reality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journey from September to Jun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and beyond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family outing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joyrid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xpedition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dventure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KT PIL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PECIAL CLIL MODULE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n Friday, September 5, 2008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r a group of volunteers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Deadline for registration is Friday, August 22, 2008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ABO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vo.wikispaces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CAN NOW BE REACHED SIMPLY FROM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bit.ly/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23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F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European Framework of Reference for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go there n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OND DIGR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00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TIONALE for R/P &amp; I/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VER NORMAL LANGUAGE ACTIVITIE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CATE RESOURCE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STER COLLABORATION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IMULATE CREA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3:35:26Z</dcterms:created>
  <dc:creator>pf</dc:creator>
  <dc:description/>
  <dc:language>en-US</dc:language>
  <cp:lastModifiedBy>pf</cp:lastModifiedBy>
  <dcterms:modified xsi:type="dcterms:W3CDTF">2008-08-17T18:57:10Z</dcterms:modified>
  <cp:revision>15</cp:revision>
  <dc:subject/>
  <dc:title>The Story Continues</dc:title>
</cp:coreProperties>
</file>